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B0C-1B11-4125-9D68-FDDBD5B5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90A-E22F-4513-8F68-C7D0AD4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5FE-4ED7-48A2-97F3-A127E413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B9C-A53C-47B2-A545-0CF3427C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CD7-A453-4F47-8BD5-6268B26A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57D-CB80-47E9-916E-BDD84EB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440-8FC7-4FA2-99B1-6270175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C37-9BCB-4377-9441-56F45DD1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D04-DE3D-4FBB-B25E-376CC741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4CC-F9A3-43BB-9A0D-6F6F0724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A0-3B09-4D7D-9FDB-6A436F2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19F-0695-418F-83A6-4B2AFC6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0C8-673D-4ADC-ABF8-C16ACB685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图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Grap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是一种较线性表和树更为复杂的非线性结构。在线性结构中，结点之间的关系是线性关系，除开始结点和终端结点外，每个结点只有一个直接前趋和直接后继。在树形结构中，结点之间的关系实质上是层次关系，同层上的每个结点可以和下一层的零个或多个结点（即孩子）相关，但只能和上一层的一个结点（即双亲）相关（根结点除外）。然而在图结构中，对结点（图中常称为顶点）的前趋和后继个数都是不加限制的，即结点之间的关系是任意的。图中任意两个结点之间都可能相关。由此，图的应用极为广泛，特别是近年来的迅速发展，已渗透到诸如语言学、逻辑学、物理、化学、电讯工程、计算机科学以及数学的其它分支中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若图中顶点信息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编号，则仅需令权值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存储一个邻接矩阵就可以表示图。若是网络，则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typ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权的类型。由于无向图或无向网络的邻接矩阵是对称的，故可采用压缩存储的方法，仅存储下三角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包括对角线上的元素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的元素即可。显然，邻接矩阵表示法的空间复杂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n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REATGRAPH(ga)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建立无向网络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raph * g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nt 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loat 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vexs[i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顶点信息，建立顶点表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arcs[i][j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     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邻接矩阵初始化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or(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k++)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条边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(scanf(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amp;I,&amp;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&amp;w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入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的权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 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&gt;arcs[i][j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ga - &gt;arcs[j][i]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CREATGRAPH 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该算法的执行时间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+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时问耗费在邻接矩阵的初始化操作上。因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所以，算法的时间复杂度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0" lang="zh-CN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邻接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表示法类似于树的孩子链表表示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每个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方法把所有邻接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成一个单链表，这个单链表就称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djacency Li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邻接表中每个表结点均有两个域，其一是邻接点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djve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以存放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的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序号；其二是链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ex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来将邻接表的所有表结点链在一起。并且为每个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设置一个具有两个域的表头结点：一个是顶点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erte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来存放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信息；另一个是指针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Lin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存入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邻接表中第一个表结点的头指针。为了便于随机访问任一顶点的邻接表，将所有邻接表的表头结点顺序存储在一个向量中，这样，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以由这个表头向量来表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有向图的邻接表与此类似，只是更加简单，每读入一个顶点对序号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＞时，仅需生成十个邻接点序号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边表结点，将其插入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出边表头部即可。若建立网络的邻接表，则需在边表的每个结点中增加一个存储边上权的数据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得注意的是，一个图的邻接矩阵表示是唯一的，但其邻接表表示不唯一，这是因为邻接表表示中，各边表结点的链接次序取决于建立邻接表的算法以及边的输入次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邻接矩阵和邻接表是图的两种最常用的存储结构，它们各有所长。下面从空间及执行某些常用操作的时间这两方面来作一比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邻接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逆邻接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中，每个边表对应于邻接矩阵的一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一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边表中结点个数等于一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一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非零元素的个数。对于一个具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条边的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无向图，则它的邻接表表示中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表结点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边表结点；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有向图，则它的邻接表表示或逆邻接表表示中均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表结点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边表结点。因此邻接表或逆邻接表表示的空间复杂度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(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(n+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若图中边的数目远远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＜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此类图称作稀疏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Sparse Graph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这时用邻接表表示比用邻接矩阵表示节省存储空间；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准确地说，无向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(n-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有向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(n-1)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此类图称作稠密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Dense Graph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考虑到邻接表中要附加链域，则应取邻接矩阵表示法为宜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无向图中求顶点的度，邻接矩阵及邻接表两种存储结构都很容易做到：邻接矩阵中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非零元素的个数即为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；在邻接表表示中，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则是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中的结点个数。在有向图中求顶点的度。采用邻接矩阵表示比邻接表表示更方便：邻接矩阵中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上非零元素的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出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上非零元素的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入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度即是二者之和；在邻接表表示中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出边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结点个数是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出度，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入度较困难，需遍历各顶点的边表。若有向图采用逆邻接表表示，则与邻接表表示相反，求顶点的入度容易，而求顶点出度较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邻接矩阵表示中，很容易判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＞是否是图的一条边，只要判定矩阵中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上的那个元素是否为零即可；但是在邻接表表示中，需扫描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边表，最坏情况下要耗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邻接矩阵中求边的数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必须检测整个矩阵，所耗费的时间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(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大小无关；而在邻接表表示中，只要对每个边表的结点个数计数即可求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所耗费的时间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(e+n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因此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采用邻接表表示更节省时间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的遍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树的遍历类似，图的遍历也是从某个顶点出发，沿着某条搜索路径对图中所有顶点各作一次访问。若给定的图是连通图，则从图中任一顶点出发顺着边可以访问到该图的所有顶点。然而，图的遍历比树的遍历复杂得多，这是因为图中的任一顶点都可能和其余顶点相邻接，故在访问了某个顶点之后，可能顺着某条回路又回到了该顶点。为了避免重复访问同一个顶点，必须记住每个顶点是否被访问过。为此，可设置一个布尔向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sited[n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它的初值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一旦访问了顶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8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便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isited[i-1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置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深度优先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Depth-First-Searc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遍历类似于树的前序遍历。假设给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态是所有顶点均未访问过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选一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初始出发点，则深度优先搜索可定义如下：首先，访问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将其标记为已访问过，然后，依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每一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则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新的出发点继续进行深度优先搜索。显然上述搜索法是递归定义的，它的特点是尽可能先对纵深方向进行搜索，故称之为深度优先搜索。例如，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刚访问过的顶点，按深度优先搜索方法，下一步将选择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若发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被访问过，则重新选择另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。若发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则沿此边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将其标记为已访问过，然后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始搜索，直到搜索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所有路径，才回溯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然后再选择一条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未检测过的边。上述过程直至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发的所有边都已检测过为止。此时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初始出发点，则回溯到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前被访问过的顶点；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初始出发点，则整个搜索过程结束。显然这时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所有和初始出发点有路径相通的顶点都已被访问过。因此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，则从初始出发点开始的搜索过程结束，也就意味着完成了对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遍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该存储结构上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过程如下：设初始出发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执行结果是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其置上已访问标记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故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首先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其标记为已访问过，然后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访问过，故继续搜索到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过，因此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分析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7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后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P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在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作标记后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的两个邻接点依次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为它们均已被访问过，所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又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两个邻接点已搜索过，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7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亦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搜索过，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还尚未搜索，故接下来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但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访问过，所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结束返回，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已搜索过，故继续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搜索到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未曾访问过，故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类似地依次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又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依次回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此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邻接点都已搜索过，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FS(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完毕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宽度优先搜索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宽度优先搜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readth-First-Searc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遍历类似于树的按层次遍历。设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态是所有顶点均未访问过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选一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初始出发点，则宽度优先搜索的基本思想是：首先访问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接着依次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邻接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然后，再依次访问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邻接的所有未曾访问过的顶点，依此类推，直至图中所有和初始出发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路径相通的顶点都已访问到为止。此时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始的搜索过程结束，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则遍历完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上述搜索法的特点是尽可能先对横向进行搜索，故称之为宽度优先搜索。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两个相继被访问过的顶点，若当前是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出发点进行搜索，则在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未曾访问过的邻接点之后，紧接着是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出发点进行横向搜索，并对搜索到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邻接点中尚未被访问的顶点进行访问。也就是说，先访问的顶点其邻接点亦先被访问。为此，需引进队列保存已访问过的顶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最小生成树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生成树不是唯一的，从不同的顶点出发进行遍历，可以得到不同的生成树。对于连通网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边是带权的，因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生成树的各边也是带权的。我们把生成树各边的权值总和称为生成树的权，并把权最小的生成树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生成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nimun Spanning T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树和最小生成树有许多重要的应用。令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表示城市，边表示连接两个城市之间的通讯线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城市之间最多可设立的线路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(n-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城市连接起来至少要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线路，则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生成树表示了建立通讯网络的可行方案。如果给图中的边都赋予权，而这些权可表示两个城市之间通讯线路的长度或建造代价，那么，如何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线路，使得建立的通讯网络其线路的总长度最短或总代价最小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就是要构造该图的一棵最小生成树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定义和术语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每条边都是有方向的，则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gra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在有向图中，一条有向边是由两个顶点组成的有序对，有序对通常用尖括号表示。例如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表示一条有向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边的始点（起点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边的终点。因此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是两条不同的有向边。有向边也称为弧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边的始点称为弧尾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终点称为弧头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两个集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顶点的有穷非空集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顶点偶对（称为边）的有穷集。通常，也将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顶点集和边集分别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空集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空，则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顶点而没有边，称为空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我们只讨论无向图的最小生成树问题。构造最小生成树可以有多种算法，其中大多数构造算法都是利用了最小生成树的下述性质：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连通网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顶点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真子集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所有的一个端点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∈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里、另一个端点不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∈V-U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里的边中，具有最小权值的一条边，则一定存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棵最小生成树包含此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个性质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性质可用反证法证明：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任何一棵最小生成树中都不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棵最小生成树，但不包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树，且是连通的，因此有一条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；且该路径上必有一条连接两个顶点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′∈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∈V-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连通。当把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入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得到一个含有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回路，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删去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上述回路即被消除，由此得到另一棵生成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区别仅在于用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代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′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权，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小生成树，它包含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假设矛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网络，为简单起见，我们用序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表示顶点集合，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设所求的最小生成树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顶点集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集。并且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边上的权看做是长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基本思想是：首先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取一个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将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置为仅有一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树，即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然后只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真子集，就在所有那些其一个端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己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另一个端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还未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中，找一条最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权最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把该条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其不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分别并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如此进行下去，每次往生成树里并入一个顶点和一条边，直到把所有顶点都包括进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止。此时，必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性质保证上述过程求得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一棵最小生成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的关键是如何找到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短边来扩充生成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为直观解释方便，设想在构造过程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顶点和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边均被涂成红色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外的顶点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顶点均被涂成蓝色，连接红点和蓝点的边均被涂成紫色，那么．最短紫边就是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-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短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最短路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通网络中常常提出这样的问题：从甲地到乙地之间是否有公路连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有多条通路的情况下，哪一条路最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通网络可用带权图来表示。顶点表示城市名称，边表示两个城市有路连通，边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可表示两城市之间的距离、交通费或途中所花费的时间等。求两个顶点之间的最短路径，不是指路径上边数之和最少，而是指路径上各边的权值之和最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若两个顶点之间没有边，则认为两个顶点无通路，但有可能有间接通路（从其他顶点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路径上的开始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发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源点，路径上的最后一个顶点称为终点，并假定讨论的权值不能为负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所有顶点对之间的最短路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有顶点对之间的最短路径是指：对于给定的有向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=(V,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要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任意一对顶点有序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(V≠W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找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最短距离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最短距离。解决此问题的一个有效方法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轮流以每一个顶点为源点，重复执行迪杰斯特拉算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，即可求得每一对顶点之间的最短路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的时间复杂度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弗洛伊德算法仍然使用前面定义的图的邻接矩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st[n+1][n+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存储带权有向图。算法的基本思想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x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矩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除对角线的元素都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，其他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长度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运算步骤。开始时，以任意两个顶点之间的有向边的权值作为路径长度，没有有向边时，路径长度为∞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 (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=arcs[i][j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后逐步尝试在原路径中加入其他顶点作为中间顶点，如果增加中间顶点后，得到的路径比原来的路径长度减少了，则以此新路径代替原路径，修改矩阵元素。具体做法为：第一步，让所有边上加入中间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1]+A[1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较小的值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完成后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第二步，让所有边上加入中间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i][2]+A[2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较小的值，完成后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此进行下去，当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完成后，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为我们所求结果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短距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拓扑排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我们把计划、施工过程、生产流程、程序流程等都当成一个工程，一个大的工程常常被划分成许多较小的子工程，这些子工程称为活动，这些活动完成时，整个工程也就完成了。例如，计算机专业学生的课程开设可看成是一个工程，每一门课程就是工程中的活动，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出了若干门所开设的课程，其中有些课程的开设有先后关系，有些则没有先后关系，有先后关系的课程必须按先后关系开设，如开设数据结构课程之前必须先学完程序设计基础及离散数学，而开设离散数学则必须学完高等数学。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我们用一种有向图来表示课程开设，在这种有向图中，顶点表示活动，有向边表示活动的优先关系，这有向图叫做顶点表示活动的网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ctive On Vertice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i,j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向边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应先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开始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必须完成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动才可以开始，并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后继。这种前驱与后继的关系有传递性，此外，任何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以它自己作为自己的前驱或后继，这叫做反自反性。从前驱和后继的传递性和反自反性来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不能出现有向回路（或称有向环）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如果出现了有向环，则意味着某项活动应以自己作为先决条件，这是不对的，工程将无法进行。对程序流程而言，将出现死循环。因此，对给定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，应先判断它是否存在有向环。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是否有有向环的方法是对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进行拓扑排序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顶点排列成一个线性有序序列，若该线性序列中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全部顶点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无环，否则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中存在有向环，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所代表的工程是不可行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章小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是一种复杂的非线性结构，具有广泛的应用背景。本章涉及到的基本概念有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由两个集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成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其中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顶点的有穷非空集合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顶点偶对（称为边）的有穷集。通常，也将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顶点集和边集分别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是空集，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空，则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顶点而没有边，称为空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向图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grap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每条边都是有方向的，则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有向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向图（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ndigrap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每条边都是没有方向的，则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无向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向完全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Undirected Complete Graph)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恰好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(n-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边的无向图称为无向完全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向完全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irected Complete Grap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恰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(n-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边的有向图称为有向完全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邻接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Adjacent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条无向边，则称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为邻接点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无向图中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是关联于该顶点的边的数目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n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有向图，则把以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终点的边的数目，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人度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D(v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度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outdegre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把以顶点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始点的边的数目，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出度，记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D(v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Subgrap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设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个图，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集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集，且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边所关联的顶点均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则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′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一个图，并称其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子图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径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Path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存在一个顶点序列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,vi1,vi2…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使得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l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1,vi2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…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i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均属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存在一条路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径长度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该路径上边的数目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一条路径上除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相同外，其余顶点均不相同，则称此路径为一条简单路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回路或简单环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ycl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起点和终点相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v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q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简单路径称为简单回路或简单环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根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一个有向图中，若存在一个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从该顶点有路径可以到达图中其它所有顶点，则称此有向图为有根图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作图的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从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然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一定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连通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图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onnected Graph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任意两个不同的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连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有路径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连通图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通分量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connected Componen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无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极大连通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连通分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连通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在有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若对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(G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任意两个不同的顶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存在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及从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j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路径，则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强连通图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连通分量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有向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极大强连通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强连通分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络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Network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若将图的每条边都赋上一个权，则称这种带权图为网络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成树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Spanning Tre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连通图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个子图如果是一棵包含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所有顶点的树，则该子图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生成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小生成树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Minimun Spanning Tree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权最小的生成树称为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最小生成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章在介绍图的基本概念的基础上，还介绍了图的两种常用的存储结构，对图的遍历、最小生成树等问题做了较详细的讨论，给出了相应的求解算法，有的算法采用自顶向下、逐步求精的方法加以介绍，也许能便于读者理解它们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对而言之，图这一章内容较难，尤其是离散数学基础较差的读者，也许难度更大些。建议读者知难而进，理解本章所介绍的算法实质，掌握图的有关术语和存储表示。面对实际问题时，学会引用本章的有关内容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无向边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邻接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ace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或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；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ide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或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关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邻接的顶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关联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是一条有向边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邻接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邻接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称边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关联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称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关联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关联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边是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向图中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关联于该顶点的边的数目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有向图，则把以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终点的边的数目，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n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把以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始点的边的数目，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utdegre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度则定义为该顶点的入度和出度之和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D(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无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若存在一个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属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在一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ath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有向图，则路径也是有向的，它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(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有向边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，…，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组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为该路径上边的数目。若一条路径上除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相同外；其余顶点均不相同，则称此路径为一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起点和终点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路径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回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单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ycl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例如，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路径；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条从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路径，但不是简单路径；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单环。在有向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顶点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有向简单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一个有向图中，若存在一个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从该顶点有路径可以到达图中其它所有顶点，则称此有向图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根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称作图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无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若从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然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一定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。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(G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意两个不同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连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有路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nected Grap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例如，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连通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无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极大连通子图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nected Component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显然，任何连通图的连通分量只有一个，即是其自身，而非连通的无向图有多个连通分量。例如，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非连通图，它有两个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有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若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(G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意两个不同的顶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都存在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及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路径，则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强连通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有向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极大强连通子图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强连通分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显然，强连通图只有一个强连通分量，即是其自身。非强连通的有向图有多个强连通分量。例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强连通图，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没有路径，但它有两个强连通分量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4290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将图的每条边都赋上一个权，则称这种带权图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Network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通常权是具有某种意义的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240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076480" y="685800"/>
          <a:ext cx="5294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685800"/>
                    <a:ext cx="5294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259092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们可以表示两个顶点之间的距离，耗费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7676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的存储结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邻接矩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jacency Matrix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表示顶点之间相邻关系的矩阵。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具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顶点的图，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邻接矩阵是具有如下性质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阶方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48320" y="3792600"/>
                <a:ext cx="38098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,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：若（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）或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是E</m:t>
                              </m:r>
                              <m:r>
                                <m:t xml:space="preserve">（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）中的边</m:t>
                              </m:r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/>
                                      </m:mr>
                                    </m:m>
                                  </m:e>
                                  <m:e/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：若（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）或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不是</m:t>
                              </m:r>
                              <m:r>
                                <m:t xml:space="preserve">E</m:t>
                              </m:r>
                              <m:r>
                                <m:t xml:space="preserve">（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）中的边</m:t>
                              </m:r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邻接矩阵表示法表示图，除了存储用于表示顶点间相邻关系的邻接矩阵外，通常还需要用一个顺序表来存储顶点信息。其形式说明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 define n 6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顶点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 define e 8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的边（弧）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char vex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顶点的数据类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float adj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 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权值类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vextype vexs[n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jtype arcs[n][n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grap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0:40:50Z</dcterms:created>
  <dc:creator>y</dc:creator>
  <dc:description/>
  <dc:language>en-US</dc:language>
  <cp:lastModifiedBy>王凌</cp:lastModifiedBy>
  <dcterms:modified xsi:type="dcterms:W3CDTF">2002-06-12T14:58:38Z</dcterms:modified>
  <cp:revision>31</cp:revision>
  <dc:subject/>
  <dc:title>图 </dc:title>
</cp:coreProperties>
</file>